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E714C-61DF-493E-A149-1034E6960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6101B-DAEB-4F60-BACD-A19B8ED94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DD8A1-8A66-41C7-A0C4-B43F27A18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C0222-E45A-43E4-BC96-C584CAA5B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4359A-4131-43EF-9F2B-9B5B04930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8979E-153F-454B-BF19-61A231878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17704-824E-43EB-9DE2-C7C3C83C4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3CECE-23F8-4A9D-A275-AB37CCE7B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1B546-B6FC-40F2-8E66-38F6499AC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7D0A3-6675-4A1B-83AD-99D182B81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9D44E-F425-466B-BEFD-F87695FA4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3C144-19FC-4873-91A9-9CA40D2D6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323E8-80CB-468D-8387-00F7073E3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97474-AB4D-49F2-BD9D-CBB661881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E0D47-1A58-49F0-8C6A-2C4C5F5E7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7FDFA-6C86-4787-AC1F-69534C0BE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E84CF-1668-44D7-A1FE-E32B539AB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5A10B-4F7A-4186-B5E4-7B8F289A5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A1B40-8DD8-435F-80C5-24727B21E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151A2-13BD-48ED-85B8-B51D16940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DAC0C-CC8E-4E2D-A776-E9E65A6FC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E5E52-FFBE-49C5-A0F0-CCB5360A4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DDBF0-13A3-4A0B-B17B-83A1E23CD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2A900-3DDF-40D3-87B7-C1BC468B1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7A1A9-1C5C-48C4-960D-88DC100ED2A6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53A56-4EB5-4397-8A1C-ED46E096600E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-431280" y="1447920"/>
            <a:ext cx="99572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Georgia"/>
              </a:rPr>
              <a:t>Why did Revolutions take place in 1848 on the continent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Georgia"/>
                <a:ea typeface="Arial"/>
              </a:rPr>
              <a:t>Unresolved Political Righ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Georgia"/>
                <a:ea typeface="Arial"/>
              </a:rPr>
              <a:t>Agricultural Condi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Georgia"/>
                <a:ea typeface="Arial"/>
              </a:rPr>
              <a:t>Industrializ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Georgia"/>
                <a:ea typeface="Arial"/>
              </a:rPr>
              <a:t>Nationalis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Georgia"/>
                <a:ea typeface="Arial"/>
              </a:rPr>
              <a:t>Role of the Domino Effe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Georgia"/>
              </a:rPr>
              <a:t>Why Revolution doesn’t take place in Britai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Georgia"/>
                <a:ea typeface="Arial"/>
              </a:rPr>
              <a:t>Workers’ Chartism of the 1830s and 1840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Georgia"/>
                <a:ea typeface="Arial"/>
              </a:rPr>
              <a:t>Failure of Workers’ Charter vs. victory of middle classes by 184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Georgia"/>
              </a:rPr>
              <a:t>Goals of the revolu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Georgia"/>
              </a:rPr>
              <a:t>Why did revolutions fail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931040" y="152280"/>
            <a:ext cx="5162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Georgia"/>
              </a:rPr>
              <a:t>Revolutions of 1848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Georgia"/>
              </a:rPr>
              <a:t>Reign of Louis-Philippe (1830-1848)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Georgia"/>
              </a:rPr>
              <a:t>Industrialization took off during the reign of Louis-Philipp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Georgia"/>
              </a:rPr>
              <a:t>Louis-Philippe did little to help the plight of worker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Georgia"/>
              </a:rPr>
              <a:t>Lyon Uprisings (1831 &amp; 1834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Georgia"/>
              </a:rPr>
              <a:t>Louis-Philippe became increasingly reluctant to grant democratic reform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Georgia"/>
              </a:rPr>
              <a:t>Frustration finally erupted in February 1848 when a cross-class alliance overthrew Louis-Philipp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Georgia"/>
              </a:rPr>
              <a:t>February Revolution in France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09480" y="99036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Georgia"/>
              </a:rPr>
              <a:t>On 22 February, a grand political banquet was planned in Pari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Georgia"/>
              </a:rPr>
              <a:t>Louis-Philippe banned this banquet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Georgia"/>
              </a:rPr>
              <a:t>Barricades went up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Georgia"/>
              </a:rPr>
              <a:t>Louis-Philippe called out the National Guard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Georgia"/>
              </a:rPr>
              <a:t>Without the support of the National Guard, Louis-Philippe was backed into a corner and began to make concession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Georgia"/>
              </a:rPr>
              <a:t>Provisional Government established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Georgia"/>
              </a:rPr>
              <a:t>Led by a group of moderate &amp; radical republican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Georgia"/>
              </a:rPr>
              <a:t>Immediate Goals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Georgia"/>
              </a:rPr>
              <a:t>Elections for a Constituent Assembly by universal manhood suffrage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Georgia"/>
              </a:rPr>
              <a:t>New constitution  (Republic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Georgia"/>
              </a:rPr>
              <a:t>Abolished slavery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Georgia"/>
              </a:rPr>
              <a:t>Abolished the death penalt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Georgia"/>
              </a:rPr>
              <a:t>Established the 10-hour workda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5257800" y="579132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8458200" cy="631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Georgia"/>
              </a:rPr>
              <a:t>The Course of the 1848 Revolu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Georgia"/>
              </a:rPr>
              <a:t>January:  </a:t>
            </a:r>
            <a:r>
              <a:rPr b="0" lang="en-US" sz="2000" spc="-1" strike="noStrike">
                <a:solidFill>
                  <a:srgbClr val="ffffcc"/>
                </a:solidFill>
                <a:latin typeface="Georgia"/>
              </a:rPr>
              <a:t>Palermo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Georgia"/>
              </a:rPr>
              <a:t>(Italy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Georgia"/>
              </a:rPr>
              <a:t>February:  </a:t>
            </a:r>
            <a:r>
              <a:rPr b="0" lang="en-US" sz="2000" spc="-1" strike="noStrike">
                <a:solidFill>
                  <a:srgbClr val="ffffcc"/>
                </a:solidFill>
                <a:latin typeface="Georgia"/>
              </a:rPr>
              <a:t>Par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Georgia"/>
              </a:rPr>
              <a:t>March: </a:t>
            </a:r>
            <a:r>
              <a:rPr b="0" lang="en-US" sz="2000" spc="-1" strike="noStrike">
                <a:solidFill>
                  <a:srgbClr val="ffffcc"/>
                </a:solidFill>
                <a:latin typeface="Georgia"/>
              </a:rPr>
              <a:t>Berlin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Georgia"/>
              </a:rPr>
              <a:t>Munich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Georgia"/>
              </a:rPr>
              <a:t>Vienna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Georgia"/>
              </a:rPr>
              <a:t>Venice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Georgia"/>
              </a:rPr>
              <a:t>Milan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Georgia"/>
              </a:rPr>
              <a:t>Craco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Georgia"/>
              </a:rPr>
              <a:t>In Austria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Georgia"/>
              </a:rPr>
              <a:t>Kaiser Franz Josep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Georgia"/>
              </a:rPr>
              <a:t>1849: Revolt in Hungary</a:t>
            </a:r>
            <a:br>
              <a:rPr sz="2000"/>
            </a:br>
            <a:r>
              <a:rPr b="0" lang="en-US" sz="2000" spc="-1" strike="noStrike">
                <a:solidFill>
                  <a:srgbClr val="ffffcc"/>
                </a:solidFill>
                <a:latin typeface="Georgia"/>
              </a:rPr>
              <a:t> suppressed with Russian </a:t>
            </a:r>
            <a:br>
              <a:rPr sz="2000"/>
            </a:br>
            <a:r>
              <a:rPr b="0" lang="en-US" sz="2000" spc="-1" strike="noStrike">
                <a:solidFill>
                  <a:srgbClr val="ffffcc"/>
                </a:solidFill>
                <a:latin typeface="Georgia"/>
              </a:rPr>
              <a:t>hel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048120" y="808200"/>
            <a:ext cx="6095880" cy="60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257640" y="0"/>
            <a:ext cx="5886360" cy="70866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0" y="304920"/>
            <a:ext cx="3276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Georgia"/>
              </a:rPr>
              <a:t>Metternich forced to flee in March 184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Georgia"/>
              </a:rPr>
              <a:t>Revolutions in Europe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Georgia"/>
              </a:rPr>
              <a:t>Austria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Georgia"/>
              </a:rPr>
              <a:t>Meternich flees the revolution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Georgia"/>
              </a:rPr>
              <a:t>Ferdinand deposed, choice of his nephew Franz Joseph II (1848-1916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Georgia"/>
              </a:rPr>
              <a:t>Hungarian revolt suppressed with Russian help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Georgia"/>
              </a:rPr>
              <a:t>Nicholas I, “the policeman of Europe.”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Georgia"/>
              </a:rPr>
              <a:t>Germany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Georgia"/>
              </a:rPr>
              <a:t>Unification of German Stat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Georgia"/>
              </a:rPr>
              <a:t>Large Germany (Grossdeutsch), or Little Germany (Kleindeutsch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Georgia"/>
              </a:rPr>
              <a:t>Frankfort Parliament offers imperial crown to Prussian k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Georgia"/>
              </a:rPr>
              <a:t>Italy: Revolts in Naples, Papal States, Tuscany, Venic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Georgia"/>
              </a:rPr>
              <a:t>Goal: Unification under the House of Savo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Georgia"/>
              </a:rPr>
              <a:t>Austrians reassert control in Tuscany &amp; Veneti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-14400"/>
            <a:ext cx="8610480" cy="647064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1219320" y="6400800"/>
            <a:ext cx="586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Georgia"/>
              </a:rPr>
              <a:t>Revolutionaries in city of Wartburg 184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Georgia"/>
              </a:rPr>
              <a:t>Split among Revolutionaries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Georgia"/>
              </a:rPr>
              <a:t>Spring 1848 -- a split developed between Moderate Republicans &amp; radical groups (Left Republicans &amp; Socialists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Georgia"/>
              </a:rPr>
              <a:t>23 April 1848 – Elections to the National Assembly.  Moderate Republicans were victoriou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Georgia"/>
              </a:rPr>
              <a:t>15 May 1848 – People of Paris stormed the National Assembly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Georgia"/>
              </a:rPr>
              <a:t>May 1848 – Marked the end of the truly revolutionary period of the Revolution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Georgia"/>
              </a:rPr>
              <a:t>The new revolutionary government tried to alleviate unemployment through a government-sponsored works program (National Workshops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Georgia"/>
              </a:rPr>
              <a:t>Issue of the Workshops was the lightening rod that divided the revolutionari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Georgia"/>
              </a:rPr>
              <a:t>June Days  (23-26 June 1848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Georgia"/>
              </a:rPr>
              <a:t>To many Europeans, June Days marked an important departure in revolutionary politics.  Now the new struggle:  bourgeoisie vs. the working class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Georgia"/>
              </a:rPr>
              <a:t>Karl Marx: “Only after baptism in the blood of the June insurgents did the tricolor become the flag of the European revolution—the red flag.”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228600" y="1066680"/>
            <a:ext cx="8534520" cy="730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Georgia"/>
              </a:rPr>
              <a:t>The Squeeze:  Economic recession and social welf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Georgia"/>
              </a:rPr>
              <a:t>45 percent tax, national workshops, educational </a:t>
            </a:r>
            <a:r>
              <a:rPr b="0" lang="en-US" sz="2800" spc="-1" strike="noStrike">
                <a:solidFill>
                  <a:srgbClr val="ffffcc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Georgia"/>
              </a:rPr>
              <a:t>schem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Georgia"/>
              </a:rPr>
              <a:t>Elections, April 1848:  Conservatives in the major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Georgia"/>
              </a:rPr>
              <a:t>Worker clubs of the Spring 184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Georgia"/>
              </a:rPr>
              <a:t>Counter-Revolution, June 184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Georgia"/>
              </a:rPr>
              <a:t>Conservatives:  Legitimists, Orleanists, Bonaparti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Georgia"/>
              </a:rPr>
              <a:t>Louis Napoleon’s election, December 184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Georgia"/>
              </a:rPr>
              <a:t>Social Democrats and the Mountains, 1849-5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Georgia"/>
              </a:rPr>
              <a:t>Louis Napoleon’s coup, December 185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Georgia"/>
              </a:rPr>
              <a:t>The Second French Republic 1848-1851</a:t>
            </a:r>
            <a:br>
              <a:rPr sz="3200"/>
            </a:b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228600" y="1143000"/>
            <a:ext cx="845820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ecember 1848 Elections in Fr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Bonaparte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5,5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Moderate republican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1,5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Radical republican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  371,000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ocialist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    36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Georgia"/>
              </a:rPr>
              <a:t>After the June Days in France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Georgia"/>
              </a:rPr>
              <a:t>June Days marked a victory for the Moderate Republican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Georgia"/>
              </a:rPr>
              <a:t>Each month grew more conservativ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Georgia"/>
              </a:rPr>
              <a:t>4 Nov. 1848 – Second French Republic proclaim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Georgia"/>
              </a:rPr>
              <a:t>10 December 1848 – Presidential Elections held. Nephew of Napoléon Bonaparte, Louis-Napoléon, wo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Georgia"/>
              </a:rPr>
              <a:t>His greatest support came from the peasantry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Georgia"/>
              </a:rPr>
              <a:t>March 1850 – Falloux Law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Georgia"/>
              </a:rPr>
              <a:t>2 December 1851 – Louis-Napoléon’s coup d’éta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Georgia"/>
              </a:rPr>
              <a:t>2 December 1852 – Louis-Napoléon assumed the title of Emperor Napoléon II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Georgia"/>
              </a:rPr>
              <a:t>Conservative order had been re-established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3505320" y="1219320"/>
            <a:ext cx="5486400" cy="53118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52280" y="1219320"/>
            <a:ext cx="33530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c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Georgia"/>
                <a:ea typeface="Times New Roman"/>
              </a:rPr>
              <a:t>Why Revolutions in 1848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c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Georgia"/>
                <a:ea typeface="Times New Roman"/>
              </a:rPr>
              <a:t>Why did this not happen in Britai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c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Georgia"/>
                <a:ea typeface="Times New Roman"/>
              </a:rPr>
              <a:t>What were the goal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c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Georgia"/>
                <a:ea typeface="Times New Roman"/>
              </a:rPr>
              <a:t>Why did the majority of revolutions fail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c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Georgia"/>
                <a:ea typeface="Times New Roman"/>
              </a:rPr>
              <a:t>What lasting impact did revolutions have on Europ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160360" y="0"/>
            <a:ext cx="4918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Georgia"/>
              </a:rPr>
              <a:t>Revolutions of 1848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Georgia"/>
              </a:rPr>
              <a:t>Revolution in Berlin (Prussia)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Georgia"/>
              </a:rPr>
              <a:t>3 March 1848 – Revolution broke out in the Rhinelan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Georgia"/>
              </a:rPr>
              <a:t>15 March 1848 -- Revolutionaries revolted in Berlin, demanding liberal democratic reform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Georgia"/>
              </a:rPr>
              <a:t>King of Prussia (Frederick William IV) made concessions to the revolutionari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Georgia"/>
              </a:rPr>
              <a:t>Soon afterwards, the other leaders of German states also gave their support for liberal democratic &amp; nationalist reform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Georgia"/>
              </a:rPr>
              <a:t>Believing that the kings &amp; princes were committed to a united Germany, bourgeois liberal leaders began to meet in Frankfurt to write a new constitution for a united Germany. (Frankfurt Parliament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Georgia"/>
              </a:rPr>
              <a:t>Supported liberal democrac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Georgia"/>
              </a:rPr>
              <a:t>Little Germany or Large Germany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Georgia"/>
              </a:rPr>
              <a:t>Supported a constitutional monarchy (under the leadership of the King of Prussia) &amp; a united Germany without Austria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52280" y="914400"/>
            <a:ext cx="8991720" cy="51339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1595160" y="6172200"/>
            <a:ext cx="6368040" cy="459720"/>
          </a:xfrm>
          <a:prstGeom prst="rect">
            <a:avLst/>
          </a:prstGeom>
          <a:solidFill>
            <a:srgbClr val="8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Police Breaking Up a Demonstration, Berlin, 184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Georgia"/>
              </a:rPr>
              <a:t>Revolution in the Austrian </a:t>
            </a:r>
            <a:br>
              <a:rPr sz="3200"/>
            </a:br>
            <a:r>
              <a:rPr b="0" lang="en-US" sz="3200" spc="-1" strike="noStrike">
                <a:solidFill>
                  <a:srgbClr val="ffffcc"/>
                </a:solidFill>
                <a:latin typeface="Georgia"/>
              </a:rPr>
              <a:t>(Hapbsurg) Empire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Georgia"/>
              </a:rPr>
              <a:t>While many revolutionaries advocated liberalism, most were nationalists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Georgia"/>
              </a:rPr>
              <a:t>Calls for liberal democracy centered in Vienn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Georgia"/>
              </a:rPr>
              <a:t>12 March 1848, Revolution broke out in Vienn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Georgia"/>
              </a:rPr>
              <a:t>Nationalist Revolution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Georgia"/>
              </a:rPr>
              <a:t>Czechs, Hungarians, &amp; Italians, in particular, rejected the dominance of a foreign, German-speaking, ruler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4832280" y="1600200"/>
            <a:ext cx="366876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Georgia"/>
              </a:rPr>
              <a:t>Hungarian (Magyar) &amp; Czech Revolutions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40384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Georgia"/>
              </a:rPr>
              <a:t>Most powerful of the minorities &amp; the most successful of the revolutionari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Georgia"/>
              </a:rPr>
              <a:t>Louis (Lajos) Kossuth (1802-1894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Georgia"/>
              </a:rPr>
              <a:t>3 March 1848 – Revolution broke out in Budapes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Georgia"/>
              </a:rPr>
              <a:t>Frightened Metternich, who quickly agreed to allow the Hungarians to establish a liberal democratic parliament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Georgia"/>
              </a:rPr>
              <a:t>March Laws:  Representation, freedom of the press, religious freedom, equal justice before the law, taxation of the nobility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Georgia"/>
              </a:rPr>
              <a:t>May 1848 – Czechs revolted, demanding political autonomy similar to what the Hungarians had received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5105520" y="1219320"/>
            <a:ext cx="379872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Georgia"/>
              </a:rPr>
              <a:t>Retreat of the Hapsburg Empire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Georgia"/>
              </a:rPr>
              <a:t>Seeing what was happening throughout Europe, the Austrian Emperor (Ferdinand I) began to grant liberal concession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Georgia"/>
              </a:rPr>
              <a:t>March 1848 – King dismissed Metternich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Georgia"/>
              </a:rPr>
              <a:t>25 April 1848 – King agreed to a constitutional monarch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Georgia"/>
              </a:rPr>
              <a:t>Granted Universal manhood suffrage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Georgia"/>
              </a:rPr>
              <a:t>Emancipated the serf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Georgia"/>
              </a:rPr>
              <a:t>15 May 1848 – Another wave of demonstrations broke out in Vienn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Georgia"/>
              </a:rPr>
              <a:t>May 17 1848 – Emperor fled to Innsbruck (Austria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Georgia"/>
              </a:rPr>
              <a:t>Beginning in the summer of 1848, Austria reasserted her dominance over the revolutionarie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Georgia"/>
              </a:rPr>
              <a:t>June 1848 – Emperor’s army crushed the Czech revolutio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Georgia"/>
              </a:rPr>
              <a:t>October 1848 – Emperor crushed the revolt in Vienna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Georgia"/>
              </a:rPr>
              <a:t>September 1848 1848 – Emperor sent troops into Hungary to suppress the revolution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Georgia"/>
              </a:rPr>
              <a:t>December 1948 – Emperor abdicated in favor of his nephew (Francis Joseph I) who was determined to suppress these revolutions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Georgia"/>
              </a:rPr>
              <a:t>March 1849 – Austrian forces conquered Hungary &amp; imposed military rule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Georgia"/>
              </a:rPr>
              <a:t>June 1849 – Austrian joins with Prussia to crush revolutions in the Rhineland, Saxony, &amp; Bavaria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016760" cy="585612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330480" y="6135840"/>
            <a:ext cx="186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Georgia"/>
              </a:rPr>
              <a:t>Milan, 184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638800" y="5942160"/>
            <a:ext cx="5290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Georgia"/>
              </a:rPr>
              <a:t>Fighting at the Tosa Gate, 184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Georgia"/>
              </a:rPr>
              <a:t>Note green, white and red fla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Georgia"/>
              </a:rPr>
              <a:t>Flag of Cisalpine republic of Napoleonic Perio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Georgia"/>
              </a:rPr>
              <a:t>Revolution in Italy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9480" y="9903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Georgia"/>
              </a:rPr>
              <a:t>January &amp; February 1848 – Revolts erupted in Naples &amp; Turi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Georgia"/>
              </a:rPr>
              <a:t>March 1848 –  </a:t>
            </a:r>
            <a:r>
              <a:rPr b="0" i="1" lang="en-US" sz="2000" spc="-1" strike="noStrike">
                <a:solidFill>
                  <a:srgbClr val="ffffcc"/>
                </a:solidFill>
                <a:latin typeface="Georgia"/>
              </a:rPr>
              <a:t>Guerra</a:t>
            </a:r>
            <a:r>
              <a:rPr b="0" lang="en-US" sz="2000" spc="-1" strike="noStrike">
                <a:solidFill>
                  <a:srgbClr val="ffffcc"/>
                </a:solidFill>
                <a:latin typeface="Georgia"/>
              </a:rPr>
              <a:t> </a:t>
            </a:r>
            <a:r>
              <a:rPr b="0" i="1" lang="en-US" sz="2000" spc="-1" strike="noStrike">
                <a:solidFill>
                  <a:srgbClr val="ffffcc"/>
                </a:solidFill>
                <a:latin typeface="Georgia"/>
              </a:rPr>
              <a:t>Santa</a:t>
            </a:r>
            <a:r>
              <a:rPr b="0" lang="en-US" sz="2000" spc="-1" strike="noStrike">
                <a:solidFill>
                  <a:srgbClr val="ffffcc"/>
                </a:solidFill>
                <a:latin typeface="Georgia"/>
              </a:rPr>
              <a:t>  (Holy War)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Georgia"/>
              </a:rPr>
              <a:t>22 March 1848 – Revolution broke out &amp; Venetian Republic was established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Georgia"/>
              </a:rPr>
              <a:t>Came under the leadership of Garibaldi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Georgia"/>
              </a:rPr>
              <a:t>March 1848 – Papal States were given a constitu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Georgia"/>
              </a:rPr>
              <a:t>February 1849 – Roman Republic proclaimed under the leadership of Mazzini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Georgia"/>
              </a:rPr>
              <a:t>Goals:  Liberalism &amp; National Unifica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Georgia"/>
              </a:rPr>
              <a:t>Led by Charles Albert (King of Piedmont-Sardinia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Georgia"/>
              </a:rPr>
              <a:t>23 March 1848 – Piedmont-Sardina declared war on Austri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Georgia"/>
              </a:rPr>
              <a:t>New Republics:  Venice, Tuscany, &amp; Rom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Georgia"/>
              </a:rPr>
              <a:t>June 1848 – Austrians defeated Piedmont-Sardinia. Austrians re-established control over Lombardy &amp; Venetia, destroying the republic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2438280" y="1171440"/>
            <a:ext cx="6705720" cy="515952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2666880" y="633888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Georgia"/>
              </a:rPr>
              <a:t>The Suppression of the 1848 Revolu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Georgia"/>
              </a:rPr>
              <a:t>Why do the Revolutions Fail?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-220680" y="760320"/>
            <a:ext cx="6671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c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Georgia"/>
              </a:rPr>
              <a:t>Problem of Idealism among Revolutionar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c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Georgia"/>
              </a:rPr>
              <a:t>Military Pow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c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Georgia"/>
              </a:rPr>
              <a:t>Weak Allian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Georgia"/>
              </a:rPr>
              <a:t>Lasting Significance of 1848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"/>
          <p:cNvSpPr/>
          <p:nvPr/>
        </p:nvSpPr>
        <p:spPr>
          <a:xfrm>
            <a:off x="228600" y="1143000"/>
            <a:ext cx="86104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c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Georgia"/>
              </a:rPr>
              <a:t>While there was a lasting challenge of liberal and radical progra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c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Georgia"/>
              </a:rPr>
              <a:t>Persistence of old regi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c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Georgia"/>
              </a:rPr>
              <a:t>“</a:t>
            </a:r>
            <a:r>
              <a:rPr b="0" lang="en-US" sz="2400" spc="-1" strike="noStrike">
                <a:solidFill>
                  <a:srgbClr val="ffffcc"/>
                </a:solidFill>
                <a:latin typeface="Georgia"/>
              </a:rPr>
              <a:t>Democracy” and 2nd Republic in France under Louis </a:t>
            </a:r>
            <a:r>
              <a:rPr b="0" lang="en-US" sz="2400" spc="-1" strike="noStrike">
                <a:solidFill>
                  <a:srgbClr val="ffffcc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Georgia"/>
              </a:rPr>
              <a:t>Napoleon, president (1848-1852) then Emperor </a:t>
            </a:r>
            <a:r>
              <a:rPr b="0" lang="en-US" sz="2400" spc="-1" strike="noStrike">
                <a:solidFill>
                  <a:srgbClr val="ffffcc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Georgia"/>
              </a:rPr>
              <a:t>Napoleon III (1852-187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c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Georgia"/>
              </a:rPr>
              <a:t>“</a:t>
            </a:r>
            <a:r>
              <a:rPr b="0" lang="en-US" sz="2400" spc="-1" strike="noStrike">
                <a:solidFill>
                  <a:srgbClr val="ffffcc"/>
                </a:solidFill>
                <a:latin typeface="Georgia"/>
              </a:rPr>
              <a:t>Representative” government (</a:t>
            </a:r>
            <a:r>
              <a:rPr b="0" i="1" lang="en-US" sz="2400" spc="-1" strike="noStrike">
                <a:solidFill>
                  <a:srgbClr val="ffffcc"/>
                </a:solidFill>
                <a:latin typeface="Georgia"/>
              </a:rPr>
              <a:t>Landtag</a:t>
            </a:r>
            <a:r>
              <a:rPr b="0" lang="en-US" sz="2400" spc="-1" strike="noStrike">
                <a:solidFill>
                  <a:srgbClr val="ffffcc"/>
                </a:solidFill>
                <a:latin typeface="Georgia"/>
              </a:rPr>
              <a:t>) in Pruss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c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Georgia"/>
              </a:rPr>
              <a:t>Emigration of 1848’ers to United Sta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c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Georgia"/>
              </a:rPr>
              <a:t>Eventual conservative cooption of liberal and radical </a:t>
            </a:r>
            <a:r>
              <a:rPr b="0" lang="en-US" sz="2400" spc="-1" strike="noStrike">
                <a:solidFill>
                  <a:srgbClr val="ffffcc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Georgia"/>
              </a:rPr>
              <a:t>platfor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304920" y="480060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746320" y="6248520"/>
            <a:ext cx="3394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cc"/>
                </a:solidFill>
                <a:latin typeface="Times New Roman"/>
              </a:rPr>
              <a:t>Illustrated London News</a:t>
            </a:r>
            <a:r>
              <a:rPr b="0" lang="en-US" sz="1600" spc="-1" strike="noStrike">
                <a:solidFill>
                  <a:srgbClr val="ffffcc"/>
                </a:solidFill>
                <a:latin typeface="Times New Roman"/>
              </a:rPr>
              <a:t> (20 Feb 1847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5715000" y="1600200"/>
            <a:ext cx="3147840" cy="45720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-71280" y="152280"/>
            <a:ext cx="897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Georgia"/>
              </a:rPr>
              <a:t>Why did Revolutions take place in 1848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04920" y="1523880"/>
            <a:ext cx="5105160" cy="50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ffffc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Georgia"/>
                <a:ea typeface="Arial"/>
              </a:rPr>
              <a:t>Unresolved political righ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c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c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Georgia"/>
                <a:ea typeface="Arial"/>
              </a:rPr>
              <a:t>Agricultural condi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c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c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Georgia"/>
                <a:ea typeface="Arial"/>
              </a:rPr>
              <a:t>Industrializ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c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c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Georgia"/>
                <a:ea typeface="Arial"/>
              </a:rPr>
              <a:t>Nationalis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c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c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Georgia"/>
                <a:ea typeface="Arial"/>
              </a:rPr>
              <a:t>Role of the domino eff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09480" y="380880"/>
            <a:ext cx="8001000" cy="623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17440" indent="0" algn="ct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Georgia"/>
              </a:rPr>
              <a:t>Why violent revolution doesn’t take place in Britain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240" y="838080"/>
            <a:ext cx="472428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796320" indent="-79632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Georgia"/>
              </a:rPr>
              <a:t>Chartism  (1830s &amp; 1840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796320" indent="-79632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Georgia"/>
              </a:rPr>
              <a:t>Working-class radical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796320" indent="-79632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Georgia"/>
              </a:rPr>
              <a:t>Change from within the political system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796320" indent="-79632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Georgia"/>
                <a:ea typeface="Times New Roman"/>
              </a:rPr>
              <a:t>Six points of the Charte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1145160" indent="-696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eorgi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Georgia"/>
                <a:ea typeface="Times New Roman"/>
              </a:rPr>
              <a:t>Universal manhood suffrag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1145160" indent="-696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eorgi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Georgia"/>
                <a:ea typeface="Times New Roman"/>
              </a:rPr>
              <a:t>Equal electoral districts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1145160" indent="-696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eorgi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Georgia"/>
                <a:ea typeface="Times New Roman"/>
              </a:rPr>
              <a:t>No property qualification for MP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1145160" indent="-696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eorgi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Georgia"/>
                <a:ea typeface="Times New Roman"/>
              </a:rPr>
              <a:t>Payment for MP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1145160" indent="-696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eorgi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Georgia"/>
                <a:ea typeface="Times New Roman"/>
              </a:rPr>
              <a:t>Annual parliament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1145160" indent="-696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eorgi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Georgia"/>
                <a:ea typeface="Times New Roman"/>
              </a:rPr>
              <a:t>Secret ballo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796320" indent="-79632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Georgia"/>
              </a:rPr>
              <a:t>Presentation of Charter three times (1839, 1842, 1848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796320" indent="-79632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Georgia"/>
              </a:rPr>
              <a:t>Ultimate failure of the Charte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1145160" indent="-696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eorgi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Georgia"/>
              </a:rPr>
              <a:t>Internal Division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1145160" indent="-6969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Georgi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Georgia"/>
              </a:rPr>
              <a:t>Role of Government to stamp out Chartist Factions</a:t>
            </a:r>
            <a:r>
              <a:rPr b="0" lang="en-US" sz="1800" spc="-1" strike="noStrike">
                <a:solidFill>
                  <a:srgbClr val="ffffcc"/>
                </a:solidFill>
                <a:latin typeface="Georgi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181480" y="1295280"/>
            <a:ext cx="3726000" cy="480060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9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9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9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498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8610480" cy="620712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685800" y="632448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Georgia"/>
              </a:rPr>
              <a:t>Last Great Chartist Demonstration, Kennington Common, London (1848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17440" indent="0" algn="ct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Georgia"/>
              </a:rPr>
              <a:t>Goals of the Revolution in France, 1848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780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Georgia"/>
              </a:rPr>
              <a:t>Goals of the revolution differed depending on your clas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780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780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Georgia"/>
              </a:rPr>
              <a:t>Bourgeois liberal goals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780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Georgia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Georgia"/>
              </a:rPr>
              <a:t>Constitutional representative governmen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780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Georgia"/>
              </a:rPr>
              <a:t>Limited democrac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780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Georgia"/>
              </a:rPr>
              <a:t>Limited state interference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780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Georgia"/>
              </a:rPr>
              <a:t>Nationalis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780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780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Georgia"/>
              </a:rPr>
              <a:t>Working-class radical republican goals: </a:t>
            </a:r>
            <a:r>
              <a:rPr b="0" lang="en-US" sz="2400" spc="-1" strike="noStrike">
                <a:solidFill>
                  <a:srgbClr val="ffffcc"/>
                </a:solidFill>
                <a:latin typeface="Georgi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780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Georgia"/>
              </a:rPr>
              <a:t>Constitutional representative governmen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780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Georgia"/>
              </a:rPr>
              <a:t>Universal male suffrag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780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Georgia"/>
              </a:rPr>
              <a:t>Activist stat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780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Georgia"/>
              </a:rPr>
              <a:t>Nationalis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941560" cy="419112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48120" y="0"/>
            <a:ext cx="5410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Georgia"/>
              </a:rPr>
              <a:t>From Restoration to Revolution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5410080" y="3954600"/>
            <a:ext cx="3733920" cy="29034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1066680" y="4876920"/>
            <a:ext cx="4130640" cy="1313640"/>
          </a:xfrm>
          <a:prstGeom prst="rect">
            <a:avLst/>
          </a:prstGeom>
          <a:noFill/>
          <a:ln w="3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Georgia"/>
              </a:rPr>
              <a:t>Temporary alliances between middle and laboring classes fade with victory of Louis Philipp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105520" y="541008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042720" y="698400"/>
            <a:ext cx="62020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Georgia"/>
              </a:rPr>
              <a:t>Louis XVIII (1815-1824) the Constitutional Char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Georgia"/>
              </a:rPr>
              <a:t>Charles X (1824-1830) attempts at Grandeu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Georgia"/>
                <a:ea typeface="Arial"/>
              </a:rPr>
              <a:t>July 1830: July Ordinanc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Georgia"/>
              </a:rPr>
              <a:t>1830 Revolution and the July Monarchy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Georgia"/>
              </a:rPr>
              <a:t>Louis Philippe: the  “Bourgeois King” (1830-1848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82160" y="4229280"/>
            <a:ext cx="270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Georgia"/>
              </a:rPr>
              <a:t>Louis XVIII (1814-1824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52280" y="6210360"/>
            <a:ext cx="5181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Georgia"/>
              </a:rPr>
              <a:t>Eugene Delacroix, “Liberty Leading the People” (1830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Georgia"/>
              </a:rPr>
              <a:t>Reign of Louis-Philippe (1830-1848)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3848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Georgia"/>
              </a:rPr>
              <a:t>July Monarch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Georgia"/>
              </a:rPr>
              <a:t>“</a:t>
            </a:r>
            <a:r>
              <a:rPr b="0" lang="en-US" sz="2400" spc="-1" strike="noStrike">
                <a:solidFill>
                  <a:srgbClr val="ffffcc"/>
                </a:solidFill>
                <a:latin typeface="Georgia"/>
              </a:rPr>
              <a:t>Bourgeois” k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Georgia"/>
              </a:rPr>
              <a:t>Reform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Georgia"/>
              </a:rPr>
              <a:t>Adopted the Tricolor flag of the revolu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Georgia"/>
              </a:rPr>
              <a:t>Abolished censorship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Georgia"/>
              </a:rPr>
              <a:t>Worked with the parliament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Georgia"/>
              </a:rPr>
              <a:t>Electoral Refor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Georgia"/>
              </a:rPr>
              <a:t>Louis-Philippe’s reforms helped mainly the upper middle classes (wealthy industrialists &amp; financiers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5334120" y="990720"/>
            <a:ext cx="352404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0T21:07:34Z</dcterms:created>
  <dc:creator>drs121f</dc:creator>
  <dc:description/>
  <dc:language>en-US</dc:language>
  <cp:lastModifiedBy>CHPA </cp:lastModifiedBy>
  <dcterms:modified xsi:type="dcterms:W3CDTF">2004-10-20T22:34:50Z</dcterms:modified>
  <cp:revision>9</cp:revision>
  <dc:subject/>
  <dc:title>Slide 1</dc:title>
</cp:coreProperties>
</file>